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843-083D-46AF-9D35-9C16A6E5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F50-F43F-4D7A-A2B0-CB81A0E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CA8-EE2A-496F-B5DD-27B33C2E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E86-24FD-4C6A-A8A7-82750CFF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F42-B281-498E-AFAC-E20F7EDC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6F1-71DF-4062-8E85-D7D741B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76B-E3AE-4721-A4F0-DA96249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595-31D5-4438-A858-2643136E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3BD-E941-4B70-B993-CBBB483F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48E-5C16-46A4-9EA7-2ACB5F68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3BB-60A2-4A16-9854-11E2ECB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936-996E-4BEA-93DD-964B1C1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50BB-887F-48CD-B7FF-0DC3867D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2.6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quations by Multiplying and Div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05740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w   =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  =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743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erty of equality (Opposite op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40388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Property of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     =   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800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ica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    - 2 v   =  -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2         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  =  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990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819520"/>
            <a:ext cx="5943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tal of 288 pens are boxed by the dozen. How many boxes are nee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B   =  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=     2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724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ivis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76212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828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ication Prop. Of 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14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  =   -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2600" y="844560"/>
            <a:ext cx="9169200" cy="517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2057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 =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198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3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133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 = -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12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 =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-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 = 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5029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 600 =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Qui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5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334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13:58Z</dcterms:created>
  <dc:creator>BRSD</dc:creator>
  <dc:description/>
  <dc:language>en-US</dc:language>
  <cp:lastModifiedBy>grahams</cp:lastModifiedBy>
  <dcterms:modified xsi:type="dcterms:W3CDTF">2011-11-10T17:28:50Z</dcterms:modified>
  <cp:revision>10</cp:revision>
  <dc:subject/>
  <dc:title>Problem of the Day!!!</dc:title>
</cp:coreProperties>
</file>